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failure1.wav" ContentType="audio/x-wav"/>
  <Override PartName="/ppt/media/image8.png" ContentType="image/png"/>
  <Override PartName="/ppt/media/image7.png" ContentType="image/png"/>
  <Override PartName="/ppt/media/hmm.wav" ContentType="audio/x-wav"/>
  <Override PartName="/ppt/media/image1.jpeg" ContentType="image/jpeg"/>
  <Override PartName="/ppt/media/image6.png" ContentType="image/png"/>
  <Override PartName="/ppt/media/ZZZZ.wav" ContentType="audio/x-wav"/>
  <Override PartName="/ppt/media/knowitall.wav" ContentType="audio/x-wav"/>
  <Override PartName="/ppt/media/image12.png" ContentType="image/png"/>
  <Override PartName="/ppt/media/image14.png" ContentType="image/png"/>
  <Override PartName="/ppt/media/image13.png" ContentType="image/png"/>
  <Override PartName="/ppt/media/ticktock.wav" ContentType="audio/x-wav"/>
  <Override PartName="/ppt/media/image4.png" ContentType="image/png"/>
  <Override PartName="/ppt/media/image10.png" ContentType="image/png"/>
  <Override PartName="/ppt/media/image5.png" ContentType="image/png"/>
  <Override PartName="/ppt/media/bugleshort.wav" ContentType="audio/x-wav"/>
  <Override PartName="/ppt/media/image11.png" ContentType="image/png"/>
  <Override PartName="/ppt/media/image2.jpeg" ContentType="image/jpeg"/>
  <Override PartName="/ppt/media/image3.png" ContentType="image/png"/>
  <Override PartName="/ppt/media/12-1234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64DE-2085-4C58-907D-ED9F45B7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30040" y="4314960"/>
            <a:ext cx="738324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13DE-F454-4342-9042-D24DCBCC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328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30040" y="431496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13280" y="431496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81FF-639F-41C9-83B5-DA670EC86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6280" y="227340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2520" y="227340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30040" y="431496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6280" y="431496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2520" y="431496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9B98-8CB0-4C73-92A9-3CB1B747C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5AD3-EDC1-4F95-BF41-9227B018D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B7B6-2C75-4D79-B8F2-5AC25D6D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67F7-08CF-4992-96C6-FDF50BD7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360288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13280" y="2273400"/>
            <a:ext cx="360288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78A9-89A3-47DE-BBFC-993F25ED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1DF9-763A-434B-9A59-4A9F3B1E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30040" y="901800"/>
            <a:ext cx="738324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52B2-9D5B-4181-B8B7-79805796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13280" y="2273400"/>
            <a:ext cx="360288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30040" y="431496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0B39-28E5-48BF-9349-9361ED54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DF91-61C6-427F-AFDD-A39EC501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360288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1328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13280" y="431496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E95C-415C-49D6-8295-AF8381C6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1328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30040" y="4314960"/>
            <a:ext cx="738324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30B2-1E9E-4A74-B441-4313ACE5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30040" y="4314960"/>
            <a:ext cx="738324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6C1E-BBF7-4EB4-B13C-9A8B8B19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328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30040" y="431496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13280" y="431496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0D22-E6C7-4EAA-A7D1-86CCD5216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6280" y="227340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2520" y="227340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30040" y="431496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6280" y="431496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2520" y="431496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2EAD-92FC-4F62-95A9-FD049314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2EC0-A470-4203-B45C-1428B365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360288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13280" y="2273400"/>
            <a:ext cx="360288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07FD-B70B-4A74-A1EB-1B4B0FE6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0840-8798-4BC3-AB3C-2F43F329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30040" y="901800"/>
            <a:ext cx="738324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7277-B76C-431A-92D8-0C841BC7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13280" y="2273400"/>
            <a:ext cx="360288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30040" y="431496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05A0-A4BB-4549-A60F-D73DAE92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360288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1328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13280" y="431496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C107-85D9-4BCC-9D48-E9E388B6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1328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30040" y="4314960"/>
            <a:ext cx="738324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9204-B1E2-4C71-8AB5-D6783F49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F537-3994-4B4A-96D5-3EC7418F6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B3E2-CC99-4385-9CC5-2AA9E8C760E6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12-1234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failure1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icktock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ZZZZ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knowitall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ugleshort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hmm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trategies for Taking Standardized Tes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83" name="Picture 5" descr="testing"/>
          <p:cNvPicPr/>
          <p:nvPr/>
        </p:nvPicPr>
        <p:blipFill>
          <a:blip r:embed="rId1"/>
          <a:stretch/>
        </p:blipFill>
        <p:spPr>
          <a:xfrm>
            <a:off x="2209680" y="1143000"/>
            <a:ext cx="4724640" cy="30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Skip, Return, Check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If you finish early, check to make sure you have answered all questions.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2" name="Picture 4" descr="TESTING2"/>
          <p:cNvPicPr/>
          <p:nvPr/>
        </p:nvPicPr>
        <p:blipFill>
          <a:blip r:embed="rId1"/>
          <a:stretch/>
        </p:blipFill>
        <p:spPr>
          <a:xfrm>
            <a:off x="3581280" y="4267080"/>
            <a:ext cx="255744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Key Words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Find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key words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phrases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 in the question that will help you choose the correct answer.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5" name="Picture 5" descr="j0089038"/>
          <p:cNvPicPr/>
          <p:nvPr/>
        </p:nvPicPr>
        <p:blipFill>
          <a:blip r:embed="rId1"/>
          <a:stretch/>
        </p:blipFill>
        <p:spPr>
          <a:xfrm>
            <a:off x="3886200" y="4572000"/>
            <a:ext cx="22860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Are we communicating?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ake sure you understand what the question is asking. 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e sure you are responding to the question that is being asked.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Reading Passages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15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If the test requires you to read passages and then answer questions about what you read,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523880" y="3733920"/>
            <a:ext cx="6858000" cy="13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read the questions </a:t>
            </a:r>
            <a:r>
              <a:rPr b="1" lang="en-US" sz="4000" spc="-1" strike="noStrike" u="sng">
                <a:solidFill>
                  <a:srgbClr val="cc0066"/>
                </a:solidFill>
                <a:uFillTx/>
                <a:latin typeface="Arial"/>
              </a:rPr>
              <a:t>first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295280" y="4572000"/>
            <a:ext cx="685800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By doing this, you will know what you are looking for as you read.  This also helps you go faster on the test.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501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Reading Passages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en there are several questions about a reading passage or chart, look for 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clues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in other questions that will help you with those items about which you are unsure.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3836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Math Computation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9246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Line up place value correctly on your scratch paper (thousands, hundreds, tens, ones) or the answer will be incorrect.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6" name="Picture 8" descr="Untitled-1"/>
          <p:cNvPicPr/>
          <p:nvPr/>
        </p:nvPicPr>
        <p:blipFill>
          <a:blip r:embed="rId1"/>
          <a:stretch/>
        </p:blipFill>
        <p:spPr>
          <a:xfrm>
            <a:off x="2209680" y="3657600"/>
            <a:ext cx="533412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Math Computation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30040" y="1981080"/>
            <a:ext cx="73832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If your answer does not match one of the choices, reread the problem, recopy the numbers, and try solving it again.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9" name="Picture 4" descr="testing"/>
          <p:cNvPicPr/>
          <p:nvPr/>
        </p:nvPicPr>
        <p:blipFill>
          <a:blip r:embed="rId1"/>
          <a:stretch/>
        </p:blipFill>
        <p:spPr>
          <a:xfrm>
            <a:off x="3581280" y="4038480"/>
            <a:ext cx="2606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A Matter of Time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If any time remains, spend it on those questions about which you know nothing or almost nothing. 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As you go back through, do not change all answers. 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66"/>
                </a:solidFill>
                <a:latin typeface="Arial"/>
              </a:rPr>
              <a:t>Remember:  Your first guess is usually right.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It’s About Time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30400" y="2273400"/>
            <a:ext cx="5346720" cy="39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n’t spend too much time rewriting or obsessing about neatness.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n’t worry if you run out of time.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34" name="Picture 4" descr="calm"/>
          <p:cNvPicPr/>
          <p:nvPr/>
        </p:nvPicPr>
        <p:blipFill>
          <a:blip r:embed="rId1"/>
          <a:stretch/>
        </p:blipFill>
        <p:spPr>
          <a:xfrm>
            <a:off x="7162920" y="2971800"/>
            <a:ext cx="14284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Final Tips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Fill in bubbles fully, write neatly, and erase stray marks.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Double-check the test number in your test booklet against the answer sheet every few questions to be sure you haven’t gotten on the wrong number.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37" name="Picture 5" descr="test_sheet"/>
          <p:cNvPicPr/>
          <p:nvPr/>
        </p:nvPicPr>
        <p:blipFill>
          <a:blip r:embed="rId1"/>
          <a:stretch/>
        </p:blipFill>
        <p:spPr>
          <a:xfrm>
            <a:off x="6705720" y="76320"/>
            <a:ext cx="228600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60036"/>
                </a:solidFill>
                <a:latin typeface="Arial"/>
              </a:rPr>
              <a:t>‘</a:t>
            </a:r>
            <a:r>
              <a:rPr b="1" lang="en-US" sz="4400" spc="-1" strike="noStrike">
                <a:solidFill>
                  <a:srgbClr val="360036"/>
                </a:solidFill>
                <a:latin typeface="Arial"/>
              </a:rPr>
              <a:t>Twas the Night Before Testing</a:t>
            </a:r>
            <a:endParaRPr b="1" lang="en-US" sz="44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30400" y="2273400"/>
            <a:ext cx="664200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Go to bed on time.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86" name="Group 11"/>
          <p:cNvGrpSpPr/>
          <p:nvPr/>
        </p:nvGrpSpPr>
        <p:grpSpPr>
          <a:xfrm>
            <a:off x="1143000" y="2324160"/>
            <a:ext cx="7886880" cy="1866960"/>
            <a:chOff x="1143000" y="2324160"/>
            <a:chExt cx="7886880" cy="1866960"/>
          </a:xfrm>
        </p:grpSpPr>
        <p:pic>
          <p:nvPicPr>
            <p:cNvPr id="87" name="Picture 5" descr="No2pencil"/>
            <p:cNvPicPr/>
            <p:nvPr/>
          </p:nvPicPr>
          <p:blipFill>
            <a:blip r:embed="rId1"/>
            <a:stretch/>
          </p:blipFill>
          <p:spPr>
            <a:xfrm>
              <a:off x="7162920" y="2324160"/>
              <a:ext cx="186696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6"/>
            <p:cNvSpPr/>
            <p:nvPr/>
          </p:nvSpPr>
          <p:spPr>
            <a:xfrm>
              <a:off x="1143000" y="2819520"/>
              <a:ext cx="617220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Arial"/>
                </a:rPr>
                <a:t>Put a few number 2 pencils with erasers in your backpack.</a:t>
              </a:r>
              <a:endParaRPr b="0" lang="en-US" sz="3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89" name="Rectangle 8"/>
          <p:cNvSpPr/>
          <p:nvPr/>
        </p:nvSpPr>
        <p:spPr>
          <a:xfrm>
            <a:off x="1143000" y="4267080"/>
            <a:ext cx="7620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olve family/friend problems before the testing date.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1143000" y="5334120"/>
            <a:ext cx="80010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Talk to your parents about any concerns that you might have about the test.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The Death Grip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2273400"/>
            <a:ext cx="7980120" cy="39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f your arm tires during testing it is probably due to the grip that you have on your pencil. 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lax the grip and give those muscles a break.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 not do arm exercises during testing as this disturbs others.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40" name="Picture 4" descr="writing3"/>
          <p:cNvPicPr/>
          <p:nvPr/>
        </p:nvPicPr>
        <p:blipFill>
          <a:blip r:embed="rId1"/>
          <a:stretch/>
        </p:blipFill>
        <p:spPr>
          <a:xfrm>
            <a:off x="457200" y="0"/>
            <a:ext cx="20750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60036"/>
                </a:solidFill>
                <a:latin typeface="Arial"/>
              </a:rPr>
              <a:t>Thank you, Mr. Know-it-all!</a:t>
            </a:r>
            <a:endParaRPr b="1" lang="en-US" sz="44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member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it's okay not to know everything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— unlike class tests, these tests will have some questions designed to challenge the limits of your knowledge at a grade level 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above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your current grade.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slow">
    <p:cover dir="rd"/>
    <p:sndAc>
      <p:stSnd>
        <p:snd r:embed="rId1" name="knowita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The Morning of Testing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tart your day as you always do.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at a good breakfast.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ink of what you will do to relax after you get home from school.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Think Positively!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uglesho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60036"/>
                </a:solidFill>
                <a:latin typeface="Arial"/>
              </a:rPr>
              <a:t>Multiple Choice Questions</a:t>
            </a:r>
            <a:endParaRPr b="1" lang="en-US" sz="44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If you do not understand the directions, ask for help.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Read the question and </a:t>
            </a:r>
            <a:r>
              <a:rPr b="1" i="1" lang="en-US" sz="4800" spc="-1" strike="noStrike">
                <a:solidFill>
                  <a:srgbClr val="cc0066"/>
                </a:solidFill>
                <a:latin typeface="Arial"/>
              </a:rPr>
              <a:t>all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 answer choices before marking anything.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Pace Yourself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n’t spend too much time on any one question. Do your best and then move on.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swers the easiest questions first, but be sure to go back to those questions you skipped.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60036"/>
                </a:solidFill>
                <a:latin typeface="Arial"/>
              </a:rPr>
              <a:t>Multiple Choice Questions</a:t>
            </a:r>
            <a:endParaRPr b="1" lang="en-US" sz="44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 not change your answers unless you are very uncertain about your first answer choice.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ry to answer every question. Make the most intelligent guess you can.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60036"/>
                </a:solidFill>
                <a:latin typeface="Arial"/>
              </a:rPr>
              <a:t>The Process of Elimination</a:t>
            </a:r>
            <a:endParaRPr b="1" lang="en-US" sz="44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70904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After you have been through all of the questions once, go back and find questions you have some knowledge about and eliminate choices that you know are incorrect. 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01" name="Group 7"/>
          <p:cNvGrpSpPr/>
          <p:nvPr/>
        </p:nvGrpSpPr>
        <p:grpSpPr>
          <a:xfrm>
            <a:off x="1828800" y="3971880"/>
            <a:ext cx="6858000" cy="2886120"/>
            <a:chOff x="1828800" y="3971880"/>
            <a:chExt cx="6858000" cy="2886120"/>
          </a:xfrm>
        </p:grpSpPr>
        <p:sp>
          <p:nvSpPr>
            <p:cNvPr id="102" name="AutoShape 5"/>
            <p:cNvSpPr/>
            <p:nvPr/>
          </p:nvSpPr>
          <p:spPr>
            <a:xfrm>
              <a:off x="4114800" y="3971880"/>
              <a:ext cx="4572000" cy="2057400"/>
            </a:xfrm>
            <a:prstGeom prst="cloudCallout">
              <a:avLst>
                <a:gd name="adj1" fmla="val -63749"/>
                <a:gd name="adj2" fmla="val 41666"/>
              </a:avLst>
            </a:prstGeom>
            <a:solidFill>
              <a:srgbClr val="ffff0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Arial"/>
                </a:rPr>
                <a:t>I know </a:t>
              </a:r>
              <a:r>
                <a:rPr b="1" i="1" lang="en-US" sz="3600" spc="-1" strike="noStrike">
                  <a:solidFill>
                    <a:srgbClr val="660066"/>
                  </a:solidFill>
                  <a:latin typeface="Arial"/>
                </a:rPr>
                <a:t>C</a:t>
              </a:r>
              <a:r>
                <a:rPr b="1" lang="en-US" sz="3200" spc="-1" strike="noStrike">
                  <a:solidFill>
                    <a:srgbClr val="660066"/>
                  </a:solidFill>
                  <a:latin typeface="Arial"/>
                </a:rPr>
                <a:t> isn’t the answer!</a:t>
              </a:r>
              <a:endParaRPr b="0" lang="en-US" sz="3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pic>
          <p:nvPicPr>
            <p:cNvPr id="103" name="Picture 6" descr="nope"/>
            <p:cNvPicPr/>
            <p:nvPr/>
          </p:nvPicPr>
          <p:blipFill>
            <a:blip r:embed="rId1"/>
            <a:stretch/>
          </p:blipFill>
          <p:spPr>
            <a:xfrm>
              <a:off x="1828800" y="5495760"/>
              <a:ext cx="1228680" cy="1362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m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60036"/>
                </a:solidFill>
                <a:latin typeface="Arial"/>
              </a:rPr>
              <a:t>The Process of Elimination</a:t>
            </a:r>
            <a:endParaRPr b="1" lang="en-US" sz="44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f you can eliminate two wrong answers, your chance of choosing the right answer is greater.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6" name="Picture 4" descr="guess"/>
          <p:cNvPicPr/>
          <p:nvPr/>
        </p:nvPicPr>
        <p:blipFill>
          <a:blip r:embed="rId1"/>
          <a:stretch/>
        </p:blipFill>
        <p:spPr>
          <a:xfrm>
            <a:off x="4038480" y="4495680"/>
            <a:ext cx="236232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Answering Questions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n't guess blindly, but if you have time to think about the best answer choice, make it!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9" name="Picture 4" descr="Litebulb"/>
          <p:cNvPicPr/>
          <p:nvPr/>
        </p:nvPicPr>
        <p:blipFill>
          <a:blip r:embed="rId1"/>
          <a:stretch/>
        </p:blipFill>
        <p:spPr>
          <a:xfrm>
            <a:off x="3886200" y="4267080"/>
            <a:ext cx="207972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18:54:52Z</dcterms:created>
  <dc:creator>Connie Campbell</dc:creator>
  <dc:description/>
  <dc:language>en-US</dc:language>
  <cp:lastModifiedBy>Teacher</cp:lastModifiedBy>
  <dcterms:modified xsi:type="dcterms:W3CDTF">2012-10-05T13:41:40Z</dcterms:modified>
  <cp:revision>18</cp:revision>
  <dc:subject/>
  <dc:title>Test Taking Strategies</dc:title>
</cp:coreProperties>
</file>